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E8E-9546-46E9-8BAD-74DA313C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5CD-3D54-4684-9950-61CDB41C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7E8-EFAD-4395-B709-59EAB734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10E-7703-4191-AA0A-5D56B966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A2A-B5C1-4282-AA2A-D3B9078A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9DF-0E0F-4652-AD4A-FFC5A70E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DCB-1C7F-4184-A38F-412C9B7C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626-7DD8-4F04-BC4A-04A4F3E8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3F6-FBEB-4A81-9228-31BF53A6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EFE-8F12-413A-9A4F-4C798F66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DD4-43E2-46F8-8A60-1805DA7C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96D-01D6-422C-AD0E-784344D6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880E-5C24-49C8-AFD5-258ED247C32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93 Kto chce tu s Kristom zvíťazi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chce tu s Kristom zvíťaz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vodom odol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pred musí smelo vykroč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tít viery pevnej m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án raz velí vpre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márne hľadieť späť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za ním, k cieľu domo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pred, cirkev Kristov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nás, ty Knieža poko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tále s nami bu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v svete plnom rozbroj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e v láske jeden ľ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ráč nám silu d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svietiť smieme, hri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ma hriechu nech sa rozply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c smrti pomi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smieme láskou spoj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Krista prac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er jeho šíriť na ze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pásu zvest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blízko cesty cie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án náš,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bude v zemi večných kr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vrelo vítať ná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3:38:27Z</dcterms:modified>
  <cp:revision>22</cp:revision>
  <dc:subject/>
  <dc:title>Je veľký náš Pán, on slávy je Kráľ Nech do všetkých strán  spev vrúcnych znie chvál.</dc:title>
</cp:coreProperties>
</file>